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8AB-36BE-4637-9C07-B50DD1A1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46B-A573-4932-8FA7-C9F01408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737B-4068-4608-AC95-477CCF9B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D80-2031-4F58-87D2-ADF5BF7C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3D74-E21C-4CBE-8C87-84EE0D0F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DA7D-9424-47AA-81CB-80A418D3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368D-7698-43EC-9CEE-7D2B47A1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957C-19B7-4273-A3A3-385BD425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5AA2-4A3A-489B-B5A0-5006BF20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117F-5488-4F9A-82C0-F5F5A20F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6136-E241-4D08-8841-A0C211F3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4BD-129F-41B1-9DA7-F00F3894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A306-5741-495A-85DC-629D444B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FE5A-FCB7-4577-BB4B-C430AAFD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AA26-CBEF-45DF-B7E0-BD4BC58A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47E0-E2F7-4E6D-8377-42DF606D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503D-39C8-4121-B18D-F0653946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A5080-CB2D-42AC-912E-F9493B8B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5F69C-E825-4836-A8C5-C04CD9FE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96BA-CBFD-4B34-9A07-B1CAA60F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43E7-382D-4737-9DE6-C29A2D71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6D6E7-43F6-4A52-BF40-46C6D24F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859-A697-4400-B015-3F9B683C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0BCB-2AFB-4943-969D-68F611DF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1166C-2BF6-4535-9BFB-D1EC2FC4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C0744-EA27-455C-B3BE-A26D3864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77989-86AE-4C71-9F83-2A96AB55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67759-8D77-4D0F-AB0C-E6D84B54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F37A-63BD-43F6-BE2B-6FD34B40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39072-8684-4B66-B7AA-B31047FA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E3BF6-6D61-4D14-BAD4-28197598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054F2-C64A-445C-AFB3-19C31558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BF096-2DE2-480C-BA16-903AF774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730-0DED-4094-AE9B-A9761DAE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9A60-B91C-40A8-8AC2-3416E277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93FF8-3FFB-453B-ACD7-47B5C60D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BF2BE-2CBD-4CD0-B28B-A52FF8EA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7D89C-0E7E-416F-A1D3-1F630C80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C2DD4-BB02-45F6-84BE-963BF8A5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AB6E-C561-4E19-92A3-0B150B0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1880E-0B5B-41C6-9849-4BF37325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ED151-A9BC-44D6-9C2B-923F4E82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575B7-356A-4A0B-A4C2-723F9A72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59D91-1536-4ACC-AED3-DC6582E2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101E-3415-4908-BA17-83F12BBB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895DE-80E9-4398-B728-BB0E0DE9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F2FD2-E1B0-42E4-B1B7-59AE5594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B1223-1D28-4CDB-941E-745780E3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60549-F44B-4F69-9186-B1085550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61AC9-0FB5-44F2-819A-F0122917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65449-3EB5-4D59-899E-18C00848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2C96C-5FEE-4B1B-AFDE-BA35E4B8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0F871-0517-44DA-943E-18D46233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69E0C-F9A5-4CBF-896A-F546FA5F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C4B2E-8302-43A7-9A39-E84830C5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C45-2D61-4042-9265-6F90D7DF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43FEE-5A35-4FC9-BA2F-8462830D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07E-7780-4FDB-88D0-3B19B09B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E1F-7D81-4FE2-8E52-8D152C77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9AA-24E8-46F6-B0DF-9ECE3B97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632EB3-CF3C-4B54-9C6B-20DBB5068CF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069DD7-9C83-4D76-A543-49CC78D9830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C1ABD0-A72B-4AE6-B914-FE268E58BAB8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8EB03A-B34D-4FAF-A17C-FDFB05E813B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Times New Roman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Times New Roman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DDD076-26EC-4CE5-80CD-A78BC60A3C3E}" type="slidenum">
              <a:rPr b="0" lang="ru-RU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D:/&#1056;&#1072;&#1073;&#1086;&#1095;&#1080;&#1081;%20&#1089;&#1090;&#1086;&#1083;/24%20&#1092;&#1077;&#1074;&#1088;&#1072;&#1083;&#1103;/fonfari_05.mp3" TargetMode="External"/><Relationship Id="rId3" Type="http://schemas.microsoft.com/office/2007/relationships/media" Target="file:///D:/&#1056;&#1072;&#1073;&#1086;&#1095;&#1080;&#1081;%20&#1089;&#1090;&#1086;&#1083;/24%20&#1092;&#1077;&#1074;&#1088;&#1072;&#1083;&#1103;/fonfari_05.mp3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oshod23.ru/wp-content/uploads/2015/07/&#1082;&#1086;&#1085;&#1074;&#1077;&#1085;&#1094;&#1080;&#1103;-&#1086;-&#1087;&#1088;&#1072;&#1074;&#1072;&#1093;-&#1088;&#1077;&#1073;&#1105;&#1085;&#1082;&#1072;.jpg" TargetMode="External"/><Relationship Id="rId2" Type="http://schemas.openxmlformats.org/officeDocument/2006/relationships/hyperlink" Target="https://ds04.infourok.ru/uploads/ex/08ed/0004c3dc-a695d68e/hello_html_m599654e2.jpg" TargetMode="External"/><Relationship Id="rId3" Type="http://schemas.openxmlformats.org/officeDocument/2006/relationships/hyperlink" Target="http://www.playcast.ru/uploads/2018/02/08/24576371.png" TargetMode="External"/><Relationship Id="rId4" Type="http://schemas.openxmlformats.org/officeDocument/2006/relationships/hyperlink" Target="http://s017.radikal.ru/i419/1110/fb/f9ae137ba987.jpg" TargetMode="External"/><Relationship Id="rId5" Type="http://schemas.openxmlformats.org/officeDocument/2006/relationships/hyperlink" Target="http://ds207.omsk.obr55.ru/files/2018/08/&#1057;&#1083;&#1072;&#1081;&#1076;36-622x450.jpg" TargetMode="External"/><Relationship Id="rId6" Type="http://schemas.openxmlformats.org/officeDocument/2006/relationships/hyperlink" Target="http://hre.ohchr.org/hret/udhr/12413.jpg" TargetMode="External"/><Relationship Id="rId7" Type="http://schemas.openxmlformats.org/officeDocument/2006/relationships/hyperlink" Target="http://www.bookin.org.ru/book/194854.jpg" TargetMode="External"/><Relationship Id="rId8" Type="http://schemas.openxmlformats.org/officeDocument/2006/relationships/hyperlink" Target="http://x-minus.me/track/2364/&#1095;&#1077;&#1084;&#1091;-&#1091;&#1095;&#1072;&#1090;-&#1074;-&#1096;&#1082;&#1086;&#1083;&#1077;" TargetMode="External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C:/Users/1/Desktop/&#1042;&#1085;&#1077;&#1082;&#1083;&#1072;&#1089;&#1089;&#1085;&#1086;&#1077;%20&#1084;&#1077;&#1088;&#1086;&#1087;&#1088;&#1080;&#1103;&#1090;&#1080;&#1077;%20&#1055;&#1088;&#1072;&#1074;&#1072;%20&#1080;%20&#1086;&#1073;&#1103;&#1079;&#1072;&#1085;&#1085;&#1086;&#1089;&#1090;&#1080;/&#1042;&#1083;&#1072;&#1076;&#1080;&#1084;&#1080;&#1088;%20&#1064;&#1072;&#1080;&#1085;&#1089;&#1082;&#1080;&#1081;%20-%20&#1063;&#1077;&#1084;&#1091;%20&#1091;&#1095;&#1072;&#1090;%20&#1074;%20&#1096;&#1082;&#1086;&#1083;&#1077;%20(minus).mp3" TargetMode="External"/><Relationship Id="rId2" Type="http://schemas.microsoft.com/office/2007/relationships/media" Target="file:///C:/Users/1/Desktop/&#1042;&#1085;&#1077;&#1082;&#1083;&#1072;&#1089;&#1089;&#1085;&#1086;&#1077;%20&#1084;&#1077;&#1088;&#1086;&#1087;&#1088;&#1080;&#1103;&#1090;&#1080;&#1077;%20&#1055;&#1088;&#1072;&#1074;&#1072;%20&#1080;%20&#1086;&#1073;&#1103;&#1079;&#1072;&#1085;&#1085;&#1086;&#1089;&#1090;&#1080;/&#1042;&#1083;&#1072;&#1076;&#1080;&#1084;&#1080;&#1088;%20&#1064;&#1072;&#1080;&#1085;&#1089;&#1082;&#1080;&#1081;%20-%20&#1063;&#1077;&#1084;&#1091;%20&#1091;&#1095;&#1072;&#1090;%20&#1074;%20&#1096;&#1082;&#1086;&#1083;&#1077;%20(minus).mp3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G:/06&#1053;&#1072;&#1095;&#1072;&#1083;&#1086;.mp3" TargetMode="External"/><Relationship Id="rId3" Type="http://schemas.microsoft.com/office/2007/relationships/media" Target="file:///G:/06&#1053;&#1072;&#1095;&#1072;&#1083;&#1086;.mp3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4"/>
          <p:cNvSpPr/>
          <p:nvPr/>
        </p:nvSpPr>
        <p:spPr>
          <a:xfrm>
            <a:off x="1259640" y="1484640"/>
            <a:ext cx="7344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Внеклассное мероприят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http://cs5.sibnovosti.ru/pictures/0589/8979/omichey_priglashayut_stat_studentami_vgika_thumb_fed_photo.png"/>
          <p:cNvPicPr/>
          <p:nvPr/>
        </p:nvPicPr>
        <p:blipFill>
          <a:blip r:embed="rId1"/>
          <a:stretch/>
        </p:blipFill>
        <p:spPr>
          <a:xfrm rot="20832600">
            <a:off x="3785760" y="4547160"/>
            <a:ext cx="2406960" cy="182160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2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AutoShape 2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AutoShape 2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AutoShape 2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utoShape 3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AutoShape 5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5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58" descr="http://images.clipshrine.com/download/wheel/large-Cartoon-movie-camera-33.3-12711.png"/>
          <p:cNvPicPr/>
          <p:nvPr/>
        </p:nvPicPr>
        <p:blipFill>
          <a:blip r:embed="rId2"/>
          <a:stretch/>
        </p:blipFill>
        <p:spPr>
          <a:xfrm>
            <a:off x="323640" y="2770560"/>
            <a:ext cx="1734120" cy="408708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60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AutoShape 6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AutoShape 6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70" descr="http://www.milehighonthecheap.com/lotc-cms/wp-content/uploads/2009/02/en00483_.png"/>
          <p:cNvPicPr/>
          <p:nvPr/>
        </p:nvPicPr>
        <p:blipFill>
          <a:blip r:embed="rId3"/>
          <a:stretch/>
        </p:blipFill>
        <p:spPr>
          <a:xfrm>
            <a:off x="0" y="0"/>
            <a:ext cx="3009240" cy="20556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4714920" y="5221080"/>
            <a:ext cx="4285800" cy="1218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Есипова А.А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АУ «СОШ №13 г.Новотроиц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енбургской област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95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367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http://www.uchportal.ru/_ld/154/0167611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3636000" y="908640"/>
            <a:ext cx="504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Дорогие наши родители, сегодня мы поняли что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http://img1.liveinternet.ru/images/attach/c/11/115/452/115452325______2x.png"/>
          <p:cNvPicPr/>
          <p:nvPr/>
        </p:nvPicPr>
        <p:blipFill>
          <a:blip r:embed="rId1"/>
          <a:stretch/>
        </p:blipFill>
        <p:spPr>
          <a:xfrm>
            <a:off x="683640" y="764640"/>
            <a:ext cx="3008520" cy="219168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3"/>
          <p:cNvSpPr/>
          <p:nvPr/>
        </p:nvSpPr>
        <p:spPr>
          <a:xfrm>
            <a:off x="3564000" y="3645000"/>
            <a:ext cx="5112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800000"/>
                </a:solidFill>
                <a:latin typeface="Calibri"/>
              </a:rPr>
              <a:t>Дорогие наши дети, мы очень хотим чтобы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://talkyland.com/media/CACHE/images/posts/2014/11/30/ee4cf5f5b8cd4334bc6598bafb26e148/e049bcc33feb90a0ec10ee02b5370922.jpg"/>
          <p:cNvPicPr/>
          <p:nvPr/>
        </p:nvPicPr>
        <p:blipFill>
          <a:blip r:embed="rId2"/>
          <a:stretch/>
        </p:blipFill>
        <p:spPr>
          <a:xfrm>
            <a:off x="899640" y="3501000"/>
            <a:ext cx="240624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6" descr="http://img0.liveinternet.ru/images/attach/c/9/106/978/106978080_5177462_49612_html_48633229.png"/>
          <p:cNvPicPr/>
          <p:nvPr/>
        </p:nvPicPr>
        <p:blipFill>
          <a:blip r:embed="rId1"/>
          <a:stretch/>
        </p:blipFill>
        <p:spPr>
          <a:xfrm>
            <a:off x="2411640" y="692640"/>
            <a:ext cx="4464000" cy="34308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6"/>
          <p:cNvSpPr/>
          <p:nvPr/>
        </p:nvSpPr>
        <p:spPr>
          <a:xfrm>
            <a:off x="1259640" y="4293000"/>
            <a:ext cx="698436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Товарищи взрослые и дети!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За своё будущее мы все в ответе!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Права и обязанности свои знайте,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Хорошими людьми вырастай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928800" y="642960"/>
            <a:ext cx="528588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нтернет ресур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"/>
          <p:cNvSpPr/>
          <p:nvPr/>
        </p:nvSpPr>
        <p:spPr>
          <a:xfrm>
            <a:off x="857160" y="1285920"/>
            <a:ext cx="77864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voshod23.ru/wp-content/uploads/2015/07/%D0%BA%D0%BE%D0%BD%D0%B2%D0%B5%D0%BD%D1%86%D0%B8%D1%8F-%D0%BE-%D0%BF%D1%80%D0%B0%D0%B2%D0%B0%D1%85-%D1%80%D0%B5%D0%B1%D1%91%D0%BD%D0%BA%D0%B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s://ds04.infourok.ru/uploads/ex/08ed/0004c3dc-a695d68e/hello_html_m599654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playcast.ru/uploads/2018/02/08/24576371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://s017.radikal.ru/i419/1110/fb/f9ae137ba98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http://ds207.omsk.obr55.ru/files/2018/08/%D0%A1%D0%BB%D0%B0%D0%B9%D0%B436-622x45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6"/>
              </a:rPr>
              <a:t>http://hre.ohchr.org/hret/udhr/1241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7"/>
              </a:rPr>
              <a:t>http://www.bookin.org.ru/book/19485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Times New Roman"/>
                <a:hlinkClick r:id="rId8"/>
              </a:rPr>
              <a:t>http://x-minus.me/track/2364/%D1%87%D0%B5%D0%BC%D1%83-%D1%83%D1%87%D0%B0%D1%82-%D0%B2-%D1%88%D0%BA%D0%BE%D0%BB%D0%B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img1.liveinternet.ru/images/attach/c/11/115/452/115452325______2x.png"/>
          <p:cNvPicPr/>
          <p:nvPr/>
        </p:nvPicPr>
        <p:blipFill>
          <a:blip r:embed="rId1"/>
          <a:stretch/>
        </p:blipFill>
        <p:spPr>
          <a:xfrm>
            <a:off x="6001200" y="4293000"/>
            <a:ext cx="3142440" cy="2289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ttp://img0.liveinternet.ru/images/attach/c/9/106/978/106978080_5177462_49612_html_48633229.png"/>
          <p:cNvPicPr/>
          <p:nvPr/>
        </p:nvPicPr>
        <p:blipFill>
          <a:blip r:embed="rId2"/>
          <a:stretch/>
        </p:blipFill>
        <p:spPr>
          <a:xfrm>
            <a:off x="323640" y="332640"/>
            <a:ext cx="4139640" cy="318132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3"/>
          <p:cNvSpPr/>
          <p:nvPr/>
        </p:nvSpPr>
        <p:spPr>
          <a:xfrm>
            <a:off x="4811040" y="836640"/>
            <a:ext cx="31435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ffff00"/>
                </a:solidFill>
                <a:latin typeface="Calibri"/>
              </a:rPr>
              <a:t>Пра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276840" y="4941000"/>
            <a:ext cx="57571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ffff00"/>
                </a:solidFill>
                <a:latin typeface="Calibri"/>
              </a:rPr>
              <a:t>обязанност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4503240" y="2853000"/>
            <a:ext cx="8056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ffff00"/>
                </a:solidFill>
                <a:latin typeface="Calibri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2"/>
          <p:cNvSpPr/>
          <p:nvPr/>
        </p:nvSpPr>
        <p:spPr>
          <a:xfrm>
            <a:off x="755640" y="764640"/>
            <a:ext cx="770436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“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Право”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это система правил (норм) поведения, регулирующих отношения людей в обществе, установленные и охраняемы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                                                   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государ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Слово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“право”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имеет общий корень с такими словами, как “правило”, “правда”, “справедливость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7"/>
          <p:cNvSpPr/>
          <p:nvPr/>
        </p:nvSpPr>
        <p:spPr>
          <a:xfrm>
            <a:off x="611640" y="1340640"/>
            <a:ext cx="806436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сновные  документы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авах реб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Декларация прав ребё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онвенция о правах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емейный кодек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Федеральный зако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 24 июля 1998 г. N 124-Ф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"Об основных гарантиях прав ребенка в РФ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http://wiki.saripkro.ru/images/0012v_enlv8.jpg"/>
          <p:cNvPicPr/>
          <p:nvPr/>
        </p:nvPicPr>
        <p:blipFill>
          <a:blip r:embed="rId1"/>
          <a:stretch/>
        </p:blipFill>
        <p:spPr>
          <a:xfrm rot="459600">
            <a:off x="6792840" y="1795680"/>
            <a:ext cx="15706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6"/>
          <p:cNvSpPr/>
          <p:nvPr/>
        </p:nvSpPr>
        <p:spPr>
          <a:xfrm>
            <a:off x="755640" y="1556640"/>
            <a:ext cx="7704360" cy="51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еждународные документы о правах детей:</a:t>
            </a:r>
            <a:br>
              <a:rPr sz="2800"/>
            </a:br>
            <a:br>
              <a:rPr sz="18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Декларация прав ребен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официальный документ, где записаны права ребенка. В нем задекларированы основные принципы, рекомендации. Всего их деся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 Всеобщей декларации прав человека записано, чт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“главное право каждого человека – право на жизнь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онвенция о правах ребенк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международный договор, в котором оговорены права ребенка. Конвенция в переводе с латинского – договор, соглашение по специальному вопросу, имеющее обязательную силу для тех государств, которые ее подписали. Она содержит три части, 54 статьи.</a:t>
            </a:r>
            <a:br>
              <a:rPr sz="16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2"/>
          <p:cNvSpPr/>
          <p:nvPr/>
        </p:nvSpPr>
        <p:spPr>
          <a:xfrm>
            <a:off x="677160" y="1500120"/>
            <a:ext cx="78890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4400" spc="-1" strike="noStrike" u="sng">
                <a:solidFill>
                  <a:srgbClr val="3333ff"/>
                </a:solidFill>
                <a:uFillTx/>
                <a:latin typeface="Calibri"/>
              </a:rPr>
              <a:t>20 ноября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 u="sng">
                <a:solidFill>
                  <a:srgbClr val="3333ff"/>
                </a:solidFill>
                <a:uFillTx/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3333ff"/>
                </a:solidFill>
                <a:uFillTx/>
                <a:latin typeface="Calibri"/>
              </a:rPr>
              <a:t>Всемирный день прав ребё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http://hre.ohchr.org/hret/udhr/12413.jpg"/>
          <p:cNvPicPr/>
          <p:nvPr/>
        </p:nvPicPr>
        <p:blipFill>
          <a:blip r:embed="rId1"/>
          <a:stretch/>
        </p:blipFill>
        <p:spPr>
          <a:xfrm>
            <a:off x="1928880" y="3143160"/>
            <a:ext cx="1927080" cy="2712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http://www.bookin.org.ru/book/194854.jpg"/>
          <p:cNvPicPr/>
          <p:nvPr/>
        </p:nvPicPr>
        <p:blipFill>
          <a:blip r:embed="rId2"/>
          <a:stretch/>
        </p:blipFill>
        <p:spPr>
          <a:xfrm>
            <a:off x="4929120" y="3071880"/>
            <a:ext cx="18716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Box 3"/>
          <p:cNvSpPr/>
          <p:nvPr/>
        </p:nvSpPr>
        <p:spPr>
          <a:xfrm>
            <a:off x="714240" y="500040"/>
            <a:ext cx="3642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ём о прав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785880" y="1285920"/>
            <a:ext cx="7929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1.Как права ребятам зн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Интеллект свой повыш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Учат в школе, учат в школе, учат в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Все законы уваж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Малышей не обиж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Учат в школе, учат в школе, учат в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857160" y="1357200"/>
            <a:ext cx="785772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2.На учёбу есть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И на отдых есть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Учат в школе, учат в школе, учат в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На заботу есть пр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И работу есть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Учат в школе, учат в школе, учат в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858080" y="5643720"/>
            <a:ext cx="447480" cy="44748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"/>
          <p:cNvSpPr/>
          <p:nvPr/>
        </p:nvSpPr>
        <p:spPr>
          <a:xfrm>
            <a:off x="857160" y="157176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Свод законов есть больш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Вместе мы его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Учим в школе, учим в школе, учим в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Чтоб сумел их применя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Смог себя ты защищ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Учат в школе, учат в школе, учат в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6072120" y="571320"/>
            <a:ext cx="235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Муз. В. Шаи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Сл. Я.Ко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6165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58055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127">
  <a:themeElements>
    <a:clrScheme name="Другая 7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800000"/>
      </a:hlink>
      <a:folHlink>
        <a:srgbClr val="e36c0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85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127">
  <a:themeElements>
    <a:clrScheme name="Другая 7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800000"/>
      </a:hlink>
      <a:folHlink>
        <a:srgbClr val="e36c0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  <Words>283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4:20:37Z</dcterms:created>
  <dc:creator>Admin</dc:creator>
  <dc:description/>
  <dc:language>en-US</dc:language>
  <cp:lastModifiedBy>1</cp:lastModifiedBy>
  <dcterms:modified xsi:type="dcterms:W3CDTF">2021-09-29T12:54:36Z</dcterms:modified>
  <cp:revision>2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14</vt:r8>
  </property>
</Properties>
</file>